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862-5609-40B5-A7D5-2916A048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E97-C143-4EFE-9976-72FAE6B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EEC-AE50-4EBC-86FB-71F84F38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A57-9379-4893-AD0A-6098D72F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CCC66-E9C7-41C2-9377-F3882425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321C7-B993-4686-895C-C33E19EE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DD3A1-1CB0-416E-9208-674901BF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34552-CFF8-4607-B061-0867D650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2146-24CB-428C-950E-95AAEA2A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93C9A-F45C-491C-BF3C-0662F85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209D-BA55-4878-81D6-3521989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ED7-17FD-496D-A6FB-9F25ECE3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40CAA-5BC1-4741-B5EE-8982F9F9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097EF-B4A9-46FF-B172-9357A63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056C6-E849-413A-8B80-CE1A2BCA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0304D-7516-4406-8819-D54B994E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FA88B-A3C0-4C05-A144-8195ECDB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D736-A8D5-45CC-B01C-D5C661A9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87C29-A61C-450F-A0EC-F8779B4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16E9-0868-4883-937E-8C853762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F690-43EB-47FD-9F67-36C72A72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52A6-2A9A-40CB-9836-7E465C1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C3B-E8CC-43F2-B54C-81C4DE05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8B66-8C47-4FF6-95A5-F42245D0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79BF-20C8-4706-A1ED-AC79FE9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2354-B6DF-450E-BE5E-306F47A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391CC-DB06-41C1-B320-F75CFE95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FB9F-54FF-4D2F-8978-0603CF5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AA4D-DBAC-4673-844E-76162C41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BC03-0415-413C-ADDE-7C67ED75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FD2-7A16-40FE-980E-05D0CB38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E39-CC01-4CD1-980E-5B0DED7F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A7B-B18B-4BA2-B006-88BF26A3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1BC-58A4-4418-95ED-F670CF2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06F-6704-40EE-AE14-E8BE561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1F0-8C1A-4F23-BD2A-1FC6C17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D681-FC0E-46F2-BB0A-340BF97B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C45-FE50-43AD-9BFF-5B89D3E1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F63E-A92A-4DF2-ACA6-48B5180D4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Bradley Hand IT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Tahoma"/>
              </a:rPr>
              <a:t>By: Nicole Hil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52520" y="2265480"/>
            <a:ext cx="4638960" cy="23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 vacaciones a la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ican Republic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rida A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 llegue al hotel. Es muy bonito y grande. La playa es preciosa. La piscina es muy grande. En el mar hay olas grandes. Hace ca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 todo mi car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622680" cy="241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3695760"/>
            <a:ext cx="3686040" cy="276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124080" y="457200"/>
            <a:ext cx="2076480" cy="49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 Hot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99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Querido E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a playa es muy grande, y bonita. La arena es suave. Hoy tomamos el sol. Nosotros practicamos el esqui aquatica en el mar. Fuimos al surfing. Nosotros usamos crema protectora. Las olas son muy gran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Con todo mi cari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0"/>
            <a:ext cx="16383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ne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99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a Fay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hace mal tiempo, y lleve. No fui a la playa. Fuimos a una pista de tenis cubierta. Un jugador go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la pelota. La pelota pa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 encima de la red. Jugaron si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todo mi carino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3657600" y="380880"/>
            <a:ext cx="1895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r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0099cc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da madd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y mis hermanas y yo fuimos a la tienda de ropa. Compramos nuevo traje de baño. Des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uimos a nadar en la piscina. Me gusta ir de compras. Una dia muy buen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todo mi cari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6094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Verdana"/>
              </a:rPr>
              <a:t>Mierco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695600"/>
            <a:ext cx="380988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Querida mi abu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Hoy fuimos a cenar, a un restaurante. Fui a Con mi familia. Un restaurant es muy elegante. Mi com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un jamon. Es muy delicioso. Despu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s de come helado. Tengo un helado de chocolate. Me gusta un helado chocol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Con todo mi cari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Ni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05320" y="457200"/>
            <a:ext cx="2171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eve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Querido mi abue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y fui a la piscina cerca del hotel. Hace color. El sol brilla en el cielo. Yo buce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con mis hermanas. Llev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è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mi traje de baño. El agua est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á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caliente. Tom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è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el sol con mi hermana. Us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é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rema protect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n todo mi cari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693396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886200" y="533520"/>
            <a:ext cx="1724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ierne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9:51Z</dcterms:created>
  <dc:creator>hillnic</dc:creator>
  <dc:description/>
  <dc:language>en-US</dc:language>
  <cp:lastModifiedBy>hillnic</cp:lastModifiedBy>
  <dcterms:modified xsi:type="dcterms:W3CDTF">2011-12-01T18:43:51Z</dcterms:modified>
  <cp:revision>14</cp:revision>
  <dc:subject/>
  <dc:title> Me vacaDominican Republic </dc:title>
</cp:coreProperties>
</file>